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8D2D-9DAC-4119-803B-00689086B4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744-E7AD-4938-AC1D-AF516503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483-3A1E-4470-94AC-28DC034E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74B-56DB-4B7E-AE5A-5F6EA9CA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E4F-8826-4F31-A88C-668BE92D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00B-87CD-4CA0-8A3F-FB877AB0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E5C-1E75-4E87-B3BE-4538454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E06-CA72-4540-A623-90A5EEA5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11C-192A-45D2-A45E-CB1B26CB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FD1-4A4E-4F0A-B24C-EC22A51D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FCE-EF70-4594-A911-0CC743B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50E-728F-4791-8B3D-6545904B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D9B-0393-48F8-A369-3DB3F0F0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55BB-8B4D-4C7E-B7A9-55D808697E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1CDD-EFD9-49CC-BECD-55C7E482B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The Solar Syste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 “</a:t>
            </a:r>
            <a:r>
              <a:rPr b="0" lang="en-US" sz="4400" spc="-1" strike="noStrike">
                <a:solidFill>
                  <a:srgbClr val="0066cc"/>
                </a:solidFill>
                <a:latin typeface="Cooper Std Black"/>
              </a:rPr>
              <a:t>Gas Gian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”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has a methane atmosp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6477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cc"/>
                </a:solidFill>
                <a:latin typeface="Cooper Std Black"/>
              </a:rPr>
              <a:t>Neptune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neptune"/>
          <p:cNvPicPr/>
          <p:nvPr/>
        </p:nvPicPr>
        <p:blipFill>
          <a:blip r:embed="rId1"/>
          <a:stretch/>
        </p:blipFill>
        <p:spPr>
          <a:xfrm>
            <a:off x="5410080" y="320976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planet was downgraded to a “</a:t>
            </a:r>
            <a:r>
              <a:rPr b="0" lang="en-US" sz="4400" spc="-1" strike="noStrike">
                <a:solidFill>
                  <a:srgbClr val="b2b2b2"/>
                </a:solidFill>
                <a:latin typeface="Magneto"/>
              </a:rPr>
              <a:t>dwarf objec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Magneto"/>
              </a:rPr>
              <a:t>Pluto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pluto"/>
          <p:cNvPicPr/>
          <p:nvPr/>
        </p:nvPicPr>
        <p:blipFill>
          <a:blip r:embed="rId1"/>
          <a:stretch/>
        </p:blipFill>
        <p:spPr>
          <a:xfrm>
            <a:off x="3952800" y="44132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erlin Sans FB"/>
              </a:rPr>
              <a:t>Ca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33"/>
                </a:solidFill>
                <a:latin typeface="Berlin Sans FB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Berlin Sans FB"/>
              </a:rPr>
              <a:t>say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Berlin Sans FB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Berlin Sans FB"/>
              </a:rPr>
              <a:t>planets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66cc"/>
                </a:solidFill>
                <a:latin typeface="Berlin Sans FB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erlin Sans FB"/>
              </a:rPr>
              <a:t>order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alibri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alibri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alibri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alibri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alibri"/>
              </a:rPr>
              <a:t>(Plu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8168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What object is at the </a:t>
            </a:r>
            <a:r>
              <a:rPr b="0" i="1" lang="en-US" sz="4000" spc="-1" strike="noStrike" u="sng">
                <a:solidFill>
                  <a:srgbClr val="ffc000"/>
                </a:solidFill>
                <a:uFillTx/>
                <a:latin typeface="Calibri"/>
              </a:rPr>
              <a:t>center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 of our Solar Syste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008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su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604040" cy="34624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ich Planet is the </a:t>
            </a:r>
            <a:r>
              <a:rPr b="1" lang="en-US" sz="4800" spc="-1" strike="noStrike">
                <a:solidFill>
                  <a:srgbClr val="ff0000"/>
                </a:solidFill>
                <a:latin typeface="Gloucester MT Extra Condensed"/>
              </a:rPr>
              <a:t>closest</a:t>
            </a:r>
            <a:r>
              <a:rPr b="1" lang="en-US" sz="4000" spc="-1" strike="noStrike">
                <a:solidFill>
                  <a:srgbClr val="ff0000"/>
                </a:solidFill>
                <a:latin typeface="Gloucester MT Extra Condense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o the s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mercury.jpg"/>
          <p:cNvPicPr/>
          <p:nvPr/>
        </p:nvPicPr>
        <p:blipFill>
          <a:blip r:embed="rId1"/>
          <a:stretch/>
        </p:blipFill>
        <p:spPr>
          <a:xfrm>
            <a:off x="4038480" y="2362320"/>
            <a:ext cx="4383360" cy="335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3008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loucester MT Extra Condensed"/>
              </a:rPr>
              <a:t>Mercury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03848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ich planet is nicknamed the “</a:t>
            </a:r>
            <a:r>
              <a:rPr b="1" lang="en-US" sz="4000" spc="-1" strike="noStrike">
                <a:solidFill>
                  <a:srgbClr val="0070c0"/>
                </a:solidFill>
                <a:latin typeface="Bradley Hand ITC"/>
              </a:rPr>
              <a:t>Morning Star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venus.jpg"/>
          <p:cNvPicPr/>
          <p:nvPr/>
        </p:nvPicPr>
        <p:blipFill>
          <a:blip r:embed="rId1"/>
          <a:stretch/>
        </p:blipFill>
        <p:spPr>
          <a:xfrm>
            <a:off x="4343400" y="1981080"/>
            <a:ext cx="3992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3657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Bradley Hand ITC"/>
              </a:rPr>
              <a:t>Venu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0081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oadway"/>
              </a:rPr>
              <a:t>Which planet has plants, animals, and u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4" descr="earth.jpg"/>
          <p:cNvPicPr/>
          <p:nvPr/>
        </p:nvPicPr>
        <p:blipFill>
          <a:blip r:embed="rId1"/>
          <a:stretch/>
        </p:blipFill>
        <p:spPr>
          <a:xfrm>
            <a:off x="4191120" y="914400"/>
            <a:ext cx="4487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0c0"/>
                </a:solidFill>
                <a:latin typeface="Broadway"/>
              </a:rPr>
              <a:t>Earth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Britannic Bold"/>
              </a:rPr>
              <a:t>Red Plane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Britannic Bold"/>
              </a:rPr>
              <a:t>Mar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mars"/>
          <p:cNvPicPr/>
          <p:nvPr/>
        </p:nvPicPr>
        <p:blipFill>
          <a:blip r:embed="rId1"/>
          <a:stretch/>
        </p:blipFill>
        <p:spPr>
          <a:xfrm>
            <a:off x="5025960" y="22096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Calibri"/>
              </a:rPr>
              <a:t>Which is t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rg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planet in our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Solar Syste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684400"/>
            <a:ext cx="845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Goudy Stout"/>
              </a:rPr>
              <a:t>Jupiter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upiter"/>
          <p:cNvPicPr/>
          <p:nvPr/>
        </p:nvPicPr>
        <p:blipFill>
          <a:blip r:embed="rId1"/>
          <a:stretch/>
        </p:blipFill>
        <p:spPr>
          <a:xfrm>
            <a:off x="3124080" y="2286000"/>
            <a:ext cx="28260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Which planet has </a:t>
            </a:r>
            <a:r>
              <a:rPr b="1" lang="en-US" sz="4400" spc="-1" strike="noStrike">
                <a:solidFill>
                  <a:srgbClr val="c0504d"/>
                </a:solidFill>
                <a:latin typeface="Ravie"/>
              </a:rPr>
              <a:t>rocky rings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Ravie"/>
              </a:rPr>
              <a:t>Satur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aturn"/>
          <p:cNvPicPr/>
          <p:nvPr/>
        </p:nvPicPr>
        <p:blipFill>
          <a:blip r:embed="rId1"/>
          <a:stretch/>
        </p:blipFill>
        <p:spPr>
          <a:xfrm>
            <a:off x="4876920" y="1295280"/>
            <a:ext cx="4038480" cy="314820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What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00ccff"/>
                </a:solidFill>
                <a:latin typeface="Chiller"/>
              </a:rPr>
              <a:t>icy planet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has 22 ring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f81bd"/>
                </a:solidFill>
                <a:latin typeface="Chiller"/>
              </a:rPr>
              <a:t>Uranus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uranus"/>
          <p:cNvPicPr/>
          <p:nvPr/>
        </p:nvPicPr>
        <p:blipFill>
          <a:blip r:embed="rId1"/>
          <a:stretch/>
        </p:blipFill>
        <p:spPr>
          <a:xfrm>
            <a:off x="228600" y="29718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34:29Z</dcterms:created>
  <dc:creator>COE-MATT-Classroom</dc:creator>
  <dc:description/>
  <dc:language>en-US</dc:language>
  <cp:lastModifiedBy>LEGION</cp:lastModifiedBy>
  <dcterms:modified xsi:type="dcterms:W3CDTF">2018-03-22T10:48:21Z</dcterms:modified>
  <cp:revision>14</cp:revision>
  <dc:subject/>
  <dc:title>The Solar System</dc:title>
</cp:coreProperties>
</file>